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357-0467-4651-80CF-618E6ED6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C54-D9AA-42BB-9609-DDB4DF58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D28-5AF4-4CBD-96B8-AC387B64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07C-3F0F-445B-B545-DFCDCF55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359-E37B-4990-9EF5-A31F0C67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0D39-B743-4D1F-97E5-F399D0C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93A-2C49-4F09-8ED5-EEA53F5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ADC-021E-41A3-82B3-2292F2C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C53-1330-4C46-BB1D-E8D845E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A28-7D6A-49C3-83A9-608EB1C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D34D-DE80-4EBE-81E7-38EF092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AEA-B25D-42E0-ACFD-A833DD9F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B2D0-6EBE-41F9-84B6-4C6432A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C7AF-6C3A-4E33-91F5-CAE1E49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DB84-6712-4185-90F4-50375B57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CAF-9830-4CD0-B341-FC3194FB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7EB1-DCAF-4E42-9339-8AE6038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E15-2A51-483A-9AE4-055026A8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2F2-70BE-4A7F-A08F-6DD21CE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721-10D1-44FB-B0B7-BDCFF633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AB0-47BC-4577-9BB9-7415ACAA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92A-AF98-46FF-BF95-EC31B2E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3FB-5AF6-4BBD-AAC7-61A8B09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600-9E51-4FDE-9119-80C2B97A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1BE0-BC25-4217-B49F-322FAC69405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1208-1F6D-4773-903F-C17A3DDA045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Violencia y sus múltiples miradas"/>
          <p:cNvPicPr/>
          <p:nvPr/>
        </p:nvPicPr>
        <p:blipFill>
          <a:blip r:embed="rId1"/>
          <a:stretch/>
        </p:blipFill>
        <p:spPr>
          <a:xfrm>
            <a:off x="380880" y="914400"/>
            <a:ext cx="5334120" cy="5078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791320" y="914400"/>
            <a:ext cx="3124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PROMOCIÓN DE LA EQUIDAD DE GÉNERO COMO EJE DE PREVENCIÓN DE LA VIOLENC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erspectivas desde la infancia violenta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4876920"/>
            <a:ext cx="2438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María Elena Iglesias López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CESI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Arial Narrow"/>
              </a:rPr>
              <a:t>Noviembre,  200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la edad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condición de dependencia en la que se encuentran los niños, niñas y adolescentes en la familia, por su condición de desarrollo, les ubica en una situación de subordin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Pasa lo mismo con los adultos mayores, el deterioro de sus capacidades, les ubica también en situación de subordinación respecto a otros adultos.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n nuestra sociedad la ubicación jerárquica es tomada como sinónimo de pod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660066"/>
                </a:solidFill>
                <a:latin typeface="Arial Narrow"/>
              </a:rPr>
              <a:t>En lo observable, la violencia hacia los niños, niñas y adolescentes en el ámbito familiar suele darse asociada con: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902040" cy="3106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09480" y="1676520"/>
            <a:ext cx="358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La resolución de confli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- El establecimiento 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  </a:t>
            </a: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normas y disciplin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En nuestra sociedad, los conflictos se solucionan a través de la imposición del más fuerte o del que tiene más pode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66"/>
                </a:solidFill>
                <a:latin typeface="Arial Narrow"/>
              </a:rPr>
              <a:t>La disicplina se impone a través de la violenci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Arial Narrow"/>
              </a:rPr>
              <a:t>LA PREVENCIÓN DE LA VIOLENCIA</a:t>
            </a:r>
            <a:r>
              <a:rPr b="1" lang="es-ES_tradnl" sz="3600" spc="-1" strike="noStrike">
                <a:solidFill>
                  <a:srgbClr val="66006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s parte de la formación integral para la vida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, </a:t>
            </a: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basa en una visión positiva de las rel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entre las person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  <a:ea typeface="Arial"/>
              </a:rPr>
              <a:t>Valoración equitati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Arial Narrow"/>
              </a:rPr>
              <a:t>Respeto mutuo – reconocimiento del otro(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MODIFICACIONES NECESARI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Potencial de violencia en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Generación de condiciones de Buen Tra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n la famili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estructura familiar horizont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Flexibilizar y reducir las  Jerarquí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Reformulación de lo que se entiende por obediencia y respe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rradicación del castigo físico y psicológico como estrategias de discipl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Cuestionamiento y erradicación de los estereotipos de géne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Promoción de autonomía entre los miembros de la familia de acuerdo a la edad y capacidades creci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 Narrow"/>
              </a:rPr>
              <a:t>VIOLENCIA HACIA N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La violencia hacia los niños, niña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adolescentes se da en diferentes ámbitos 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660066"/>
                </a:solidFill>
                <a:latin typeface="Arial Narrow"/>
              </a:rPr>
              <a:t>tiene diferentes modalidades de expre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" descr="Violencia verbal y emocional"/>
          <p:cNvPicPr/>
          <p:nvPr/>
        </p:nvPicPr>
        <p:blipFill>
          <a:blip r:embed="rId1"/>
          <a:stretch/>
        </p:blipFill>
        <p:spPr>
          <a:xfrm>
            <a:off x="380880" y="3352680"/>
            <a:ext cx="2573280" cy="2667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57600" y="3352680"/>
            <a:ext cx="5029200" cy="2895840"/>
          </a:xfrm>
          <a:prstGeom prst="rect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Las estadísticas demuestra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uno  de los ámbitos en lo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que con más frecuencia ocurr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actos de violencia hacia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infancia y adolescencia, es la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</a:rPr>
              <a:t>famili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Arial Narrow"/>
              </a:rPr>
              <a:t>FUENTE: RESUMEN ESTADÍSTICO DE LOS CASOS ATENDIDOS EN LOS CEM - 2004</a:t>
            </a: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3726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El cuadro muestra claramente que las mujeres, de todas las edades, son las víctima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frecuentes de la viol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Fuente : Sistema de Registro de Casos de los CEM'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Arial"/>
              </a:rPr>
              <a:t>Elaboración : Oficina de Investigación y Registro PNCVFS</a:t>
            </a:r>
            <a:br>
              <a:rPr sz="2000"/>
            </a:br>
            <a:r>
              <a:rPr b="1" lang="es-ES" sz="2000" spc="-1" strike="noStrike">
                <a:solidFill>
                  <a:srgbClr val="660066"/>
                </a:solidFill>
                <a:latin typeface="Arial Narrow"/>
                <a:ea typeface="Times New Roman"/>
              </a:rPr>
              <a:t>Cuadro comparativo de NNA atendidos/as por violencia en los CEMS período 2002 a mayo 2005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El número de muje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 es 9 ve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ás alto que el d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ar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A la medida que crece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los varones son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os y, si l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son, no buscan ayu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- Por el contrario, a 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edida que crecen, 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mujeres son má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violentadas, o tienen má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isposición d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Arial Narrow"/>
              </a:rPr>
              <a:t>denunciar esta situa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562720" y="1676520"/>
          <a:ext cx="32004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676520"/>
                    <a:ext cx="3200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586320" y="1676520"/>
          <a:ext cx="197136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1676520"/>
                    <a:ext cx="1971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38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04920" y="533520"/>
            <a:ext cx="5715000" cy="5790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La visible re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s cifras 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ha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arones, 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comparación co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incremento d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sufren l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mujeres, a la med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que crecen, es u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videncia de que 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iolencia tiene 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ver con en 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sequilibrio poder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en este caso, el p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 Narrow"/>
              </a:rPr>
              <a:t>de la fuerza fís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os malos tratos son una de las formas de expresión de la violencia en las relaciones humanas</a:t>
            </a:r>
            <a:br>
              <a:rPr sz="2400"/>
            </a:br>
            <a:r>
              <a:rPr b="1" lang="es-ES" sz="2400" spc="-1" strike="noStrike">
                <a:solidFill>
                  <a:srgbClr val="660066"/>
                </a:solidFill>
                <a:latin typeface="Arial Narrow"/>
              </a:rPr>
              <a:t>La violencia, tiene a la base, desequilibrio de pod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jes de desequilibrio de poder dentro de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éner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E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Ambas categorías aluden a la organización jerárquica de la familia (verticalidad, obediencia, respeto, castig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Potencial de violencia en la famil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verticalidad de la estructura famili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rigidez de las jerarquí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obediencia y el resp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Creencias en torno a la disciplina y el valor del casti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dhesión a estereotipos de géne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Arial Narrow"/>
              </a:rPr>
              <a:t>Grado de autonomía relativa de los miemb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0066"/>
                </a:solidFill>
                <a:latin typeface="Arial Narrow"/>
              </a:rPr>
              <a:t>Géner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 Narrow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l término </a:t>
            </a:r>
            <a:r>
              <a:rPr b="1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género</a:t>
            </a:r>
            <a:r>
              <a:rPr b="0" lang="es-ES" sz="28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 abarca el conjunto de características, de oportunidades y de expectativas que un grupo social asigna a las personas y que éstas asumen como propio, basándose en su sexo.  Es una construcción social que varía de un grupo social a otro y de una época a otra.  Se construye a través de procesos sociales de comunicación y a través de manejos de poder y es transmitido a través de formas sutiles en los procesos de crianz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¿Por qué el género es un eje de </a:t>
            </a:r>
            <a:br>
              <a:rPr sz="3000"/>
            </a:br>
            <a:r>
              <a:rPr b="1" lang="es-ES" sz="3000" spc="-1" strike="noStrike">
                <a:solidFill>
                  <a:srgbClr val="660066"/>
                </a:solidFill>
                <a:latin typeface="Arial Narrow"/>
              </a:rPr>
              <a:t>desequilibrio de poder?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</a:rPr>
              <a:t>La diferenciación de género se expresa en determinados roles que la sociedad asigna a las persona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desde que nacen según sean varones o mujere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Este proceso de asignación de roles, va acompañado por un proceso simultáneo de </a:t>
            </a:r>
            <a:r>
              <a:rPr b="1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valoración diferenciada entre unos roles y otros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(unos roles se valoran positivamente otros no o no en la misma medida), en consecuencia, lleva a la subordinación de unos grupos frente a otros, dentro de la sociedad.  Aquellas personas</a:t>
            </a:r>
            <a:r>
              <a:rPr b="0" lang="es-ES" sz="2800" spc="-1" strike="noStrike">
                <a:solidFill>
                  <a:srgbClr val="40458c"/>
                </a:solidFill>
                <a:latin typeface="Comic Sans MS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Arial Narrow"/>
                <a:ea typeface="Times New Roman"/>
              </a:rPr>
              <a:t>a quienes se les asigna los roles más valorados socialmente, se encuentran en posición de ventaja y poder frente a aquellas personas a quienes se les asigna los roles menos valorados en la socie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-307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Tradicionalmente, los roles que se asignan a 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varones han sido más valorados socialmente y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consecuencia, las mujeres quedan ubicadas 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una posición de subordinación en relación c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Esto se expresa en la familia a través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La visualización del varón como el JEFE de famil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 Narrow"/>
              </a:rPr>
              <a:t>Se espera entonces que el varón imponga la disciplina y el orden al interior de la misma y que el resto de los miembros acepte esa situ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3:48:04Z</dcterms:created>
  <dc:creator>Enrique Chaux</dc:creator>
  <dc:description/>
  <dc:language>en-US</dc:language>
  <cp:lastModifiedBy>marlene</cp:lastModifiedBy>
  <dcterms:modified xsi:type="dcterms:W3CDTF">2005-12-05T15:25:21Z</dcterms:modified>
  <cp:revision>126</cp:revision>
  <dc:subject/>
  <dc:title>Understanding violence  as it develops: Conflicts and aggression among urban children in Colombi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5195166</vt:r8>
  </property>
  <property fmtid="{D5CDD505-2E9C-101B-9397-08002B2CF9AE}" pid="3" name="_AuthorEmail">
    <vt:lpwstr>echaux@uniandes.edu.co</vt:lpwstr>
  </property>
  <property fmtid="{D5CDD505-2E9C-101B-9397-08002B2CF9AE}" pid="4" name="_AuthorEmailDisplayName">
    <vt:lpwstr>Enrique Chaux</vt:lpwstr>
  </property>
  <property fmtid="{D5CDD505-2E9C-101B-9397-08002B2CF9AE}" pid="5" name="_EmailSubject">
    <vt:lpwstr>Chaux Agresion reactiva y proactiva CIFE oct 2002.ppt</vt:lpwstr>
  </property>
  <property fmtid="{D5CDD505-2E9C-101B-9397-08002B2CF9AE}" pid="6" name="_ReviewingToolsShownOnce">
    <vt:lpwstr/>
  </property>
</Properties>
</file>